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33.xml" ContentType="application/vnd.openxmlformats-officedocument.theme+xml"/>
  <Override PartName="/ppt/theme/theme45.xml" ContentType="application/vnd.openxmlformats-officedocument.theme+xml"/>
  <Override PartName="/ppt/theme/theme10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</p:sldMasterIdLst>
  <p:sldIdLst>
    <p:sldId id="256" r:id="rId47"/>
    <p:sldId id="257" r:id="rId48"/>
    <p:sldId id="258" r:id="rId49"/>
    <p:sldId id="259" r:id="rId50"/>
    <p:sldId id="260" r:id="rId51"/>
    <p:sldId id="261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" Target="slides/slide1.xml"/><Relationship Id="rId48" Type="http://schemas.openxmlformats.org/officeDocument/2006/relationships/slide" Target="slides/slide2.xml"/><Relationship Id="rId49" Type="http://schemas.openxmlformats.org/officeDocument/2006/relationships/slide" Target="slides/slide3.xml"/><Relationship Id="rId50" Type="http://schemas.openxmlformats.org/officeDocument/2006/relationships/slide" Target="slides/slide4.xml"/><Relationship Id="rId51" Type="http://schemas.openxmlformats.org/officeDocument/2006/relationships/slide" Target="slides/slide5.xml"/><Relationship Id="rId52" Type="http://schemas.openxmlformats.org/officeDocument/2006/relationships/slide" Target="slides/slide6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12CD-781D-47E9-8152-80AAB08F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2E0A-BEDF-4060-9F70-8806AEDB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2A2D5-DBE2-43BA-80CE-185A5BE3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247BE-37D5-4D6E-89A0-8BBBE278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39D02-77DC-4BEA-B107-EB229D71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ECCF8-807D-4144-B102-351A0A8E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20104-0FC3-4420-B2A4-2D2AEF21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7B8E5-F590-487A-A080-C8B5B1DB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814CA-85D4-4621-AEA9-8FAC63B2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99FC5-D04B-409B-B2A8-EE1D9309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A2F07-6B68-494E-BC34-0366BFE2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F8225-DBBD-4642-ABB8-33CDB772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05A1-A4D0-4456-850F-4AC9B20A9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81FCC-F4DC-4ED2-8AE4-CA13E1CB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92310-31C2-471C-9BF6-5050603B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61418-C18E-40B7-A197-E95C5766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0F12D-C497-4CE2-B8F0-BFE01817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1CB7B-5734-406E-BB94-426D4BA3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D60E1-7E3A-4E26-8AE0-F138CC98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9E32C-56EC-443C-865D-DC5B58ED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985E5-82C0-40BE-87BF-6BE4D3F7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108CD-873C-4920-8D30-11BE1AF2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94DF5-5AFC-43BB-A171-66AD4D6E8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C37D-313F-49B3-8C47-BA118403E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29EEE-8F91-406B-A786-CB95A8706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F81EF-3C7B-4168-8650-1567D0A4B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9E8C2-EC41-4407-AED1-33537B58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7AD92-BF45-48A6-9768-3C113691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88B03-7943-4E43-AB10-B245C589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B7644-8246-4CDD-9CA5-A5A0E372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1DA88-9CE3-49FB-A000-DA91858F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923A9-6F9A-4669-88C5-C8B0E6C4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E490D-ED6E-4793-801F-2D5E6770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288F4-F833-49D1-8EFB-71F6BB13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2C6A-9C4A-44BF-9B79-05DAFD564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79806-91A7-457B-A2D0-BBF8F2B4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4BF7E-6CBA-4FB5-9FF7-35CC41F32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AA14D-6A45-4690-B512-B5D3CFDCC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E7DAE-CBF7-45CA-B05C-EB257E18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CFEE6B-25D7-4D44-9549-461A1FE9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936C4-5F7B-4381-ADFB-561A73DF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0FC206-F358-419C-B977-4252B549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F9841-BCB1-452E-BE68-65858FA7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CEA3E-96BB-4E55-8EA6-F289870C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BB0FCF-C750-414A-9547-1A0D1D2A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35D6-068C-4BA7-86CC-3528025C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B3234C-B618-40C9-892A-537BCC19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80F8B-EA1F-47D2-9FDA-E0D61474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C4061E-F81D-437C-8C86-C8540E7A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542F3-414D-4769-B7D2-BFE57367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45E8C-D765-4D25-AD62-0F930B20D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EC0BF1-A702-4805-B0C8-B5529CCD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1724B2-381B-4BA5-AD8F-FF61ABE1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11BF39-9F31-4BD2-8D39-D96EA05D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9390CA-2134-42C6-9413-6D222A6D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70057A-BE16-458B-9184-B36F1E47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3D2F-BD6A-4A53-91AE-01F49934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9763F3-AEDA-4A4A-AF21-AB052541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43ACFF-FA48-434D-878D-BA693CD1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F441CB-A277-4E4B-892A-7CAE16CB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9A1336-2184-4E5E-AC4B-E36D6C67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92BCB1-4040-46E2-9570-BBB9F73C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D3D1E8-37FE-4134-AA6A-E382B26B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2E2669-7E43-465C-AA52-BE03321E3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B64EC0-88E3-4BF3-BC32-3D0BB55F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5FEAB8-26F9-4077-B629-4497D424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3EEF12-5F45-4121-9E0F-DB44D637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A4DD-093A-46CB-8C3E-C191B2ED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F90D3B-83A8-44FE-BA5D-82B43972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B5B2F4-3AFA-4DB0-9289-C6BF7E21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1E3FA8-7E43-4EDC-9F89-9922EFE6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DF1C99-812D-4771-B686-EE3B0B76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105902-4624-4248-BCA6-F279D616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BF3C21-F6A8-4CD1-A8B4-2CAC8EB2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091B40-3CC9-4372-AF1F-2F401429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4CB5CE-D678-48FB-914A-D55D0A220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AD853E-49A9-4B12-A8A5-449E0E82E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3617E7-9D26-4C9D-B864-AC12276FB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DCF4-C6D9-4472-831A-9FBA09C1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1A94D7-A8FB-44EC-A671-C48D541C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66F82C-3C2E-4B78-BA63-A9631C9D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616094-D526-4845-800D-C0E7CC27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78F4A7-ADB5-4B7A-8AFA-79E2F1E1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DFDCDE-438A-4EC0-BDB1-976FEF91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B0E657-6ED9-431B-8027-500464CE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D07BC2-2B76-48D2-B130-B779123F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0221DB-FBDF-46DB-9F12-B0B19310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E0A647-99ED-42F6-A59A-97412CCA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AFB175-F3A7-4DCC-89DE-8DEC152B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2507-602A-4889-BE6D-C6577D23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35ED9D-479D-4B1B-BE62-49C12D15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928E0C-8C25-4E37-B39E-6E3B6D08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C4D0ED-BF4D-42CE-8017-097268CF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62494C-C0B0-413C-B66F-DFBA94D5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484F0D-C0BB-4A52-91C6-AA4FFC34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DDA4F4-6F45-486E-914D-BD2F86F0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768512-CCC1-4CB1-B852-BD492067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1DA769-1F12-437A-A0CC-517111B4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8CA4DA-22F0-49F7-95EC-A7B4DA18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CEC7D0-9D56-496F-8892-F2086516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1223-DBE9-48EA-AF28-A39ED689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965541-9B31-42BF-AE62-3B74B684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806E30-A371-417C-94D9-9DA59707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D63731-50DC-45CC-8EF1-3293124A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0A8CE6-4F76-4BCB-BEA8-F6F05D6A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FA7B3C-F9F6-42D3-A518-E07366B8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35A489-DEBC-4EDF-A215-8E61B6EB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996C3A-65CF-4FF0-A3D6-C66F57D5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7ACA4A-95CE-4A41-8B6D-9C157737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B0F68D-36F4-485B-942A-93F7490C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C39EE3-D440-4886-B37F-94616A45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7FAD-682A-4B10-9E82-41F90111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6E29-1534-421F-AFD1-C937F4BB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D7B83E-83A9-48D0-B1F0-823E2ED0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D6D8F6-2038-481D-AEE2-707EB557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56C979-2833-4667-ADE9-F7965DE7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B81B46-979E-4D0A-A4D2-2B7F5EA95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FB55FF-34FE-4337-989C-000F26E95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507D2A-3065-4CFC-BD31-70FD90AD2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D5BFC0-FB99-48D0-BF88-069F8596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3DB037-FC60-46B3-928C-7800AB65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74AFE2-721E-4850-B885-AD963D56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BC6E46-EB5A-45A3-A85A-20A16C5C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E4F4-556D-4B8F-9B7D-F9786208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A191A6-DBBD-42ED-857E-73C3E118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5FBC6A-A788-483A-9474-6E6C416A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7FF592-39C7-4324-8E8D-A46EC311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6AC7C5-DD5C-4AF9-8A69-BAEE30F4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9189AB-1182-4584-96E2-2DFE2CBB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3C6041-F67C-405C-ABDC-115CCAC9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E3FE4D-F9EB-454A-B96F-8EBCFC3A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4E6079-A9CD-4D99-9BC8-C14DB142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A1862A-2666-4197-B603-007DE752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AD87A0-3AA4-4242-8B7C-4EF82C2E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969E-F47B-4CCC-897D-87AC62AC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098616-C591-4EC3-9C12-A39AF920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2EEB06-B5A5-4BB8-A162-A503204B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4C6EC7-AB5C-4992-B4E6-074CBBAB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D23B1A-EF06-4A7E-9A29-95160216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B94A46-8363-4B93-9409-9E18FD98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E20CC8-9290-483A-9502-54834670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77E9AF-E87B-4813-BFB2-D8CC9D17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A60585-07D3-4967-B36E-78B26E75F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C21DFE-FE5C-4F59-B1BC-571AE0A3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B0AA4A-8F0F-4D8E-9DE2-467239A0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E8CD-97C2-417D-90E4-6C482A08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147201-89FE-47B4-A15E-4313A59E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6EF78F-CEEF-49E6-A963-231231B1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32BE65-419A-4C44-B017-71DE293C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B9C8CA-E9E0-4CDE-BFA5-AFEBA945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DE826D-1643-4F1D-8546-AC306D3F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E172F8-FF24-4FDF-83AF-EC71EEF9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D60A34-1ACB-4481-B20A-A6CC3974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FE94BF-96A5-48E7-824B-72C22C71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E80935-4D82-4557-ABDA-72F50701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AC25F5-F606-4351-BEDE-81F40614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EA5A-2EA6-40C3-AAE9-C5D423F8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D4B1ED-8D78-430F-BE12-F79F01CF3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E15B77-FBC2-40B5-83D7-F08AB19FE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E4269D-AF1A-45C1-8611-98BF4564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3B2307-A435-4DAF-B934-68E250FE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AD7F7C-F5BC-46AD-9030-30705392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A98722-1E62-4509-B700-B66486CD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F9EE5C-61D2-4EF4-A501-C048726E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273451-2B0D-438A-BEE8-CEAA895A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61C8A6-3FEB-4B74-8D69-BAE6C67A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51F0AA-2CB5-4EBD-97CB-700A7F1B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B6342-487B-4C0C-BAA4-4EB1E28C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8EB67A-D101-4057-BB24-1F3D4488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358256-AF9F-4392-B094-AB7BA91F6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1F081E-6B59-4356-8297-1904A89FE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C80348-BBC9-4409-8A68-63BE709BB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EFDB8C-31FC-4289-BC0F-CAB6DB59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ACEC61-06D3-426F-AAB7-8BD55E77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AE3A91-1FE6-43E9-8A82-95F12803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24D0B4-4BC5-4786-9916-4BD80EAA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43D02A-5739-4AAB-9760-92C9938A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EA728C-91AB-4960-9519-08CBAF0E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15645-1285-4C20-BA49-3A0380A2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E6A0EB-0A47-4016-A2F3-D71A715F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003175-8AFD-4FBA-8BE0-D81FE2F5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6D171A-3B30-43DE-AA23-A2990889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38DB05-1D08-4B34-89B0-D18BB227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34CD3F-F8A7-4D49-A11D-516C13B0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F3F7A0-4141-4541-A129-414DA06B0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8C6156-98A8-4954-BE58-92B598D6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4E9B71-9FA7-4E7F-9387-5FDD09AF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D134F1-43E0-4FA5-8149-62460F9C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0B0381-4630-4033-84D4-FF2E116C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E35D9-BC40-4229-A6A7-9847B79A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2770B4-D824-449F-B64E-8EE2259F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382C64-6D4C-404B-8B21-92C22203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E92D4B-ACEA-4B58-BAA5-6D3C223C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3616C6-1009-484F-9988-80F8AFE3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5F22B2-2B5C-48A5-9DD5-3D389E58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477D87-A6F0-49C5-9306-E0E72D32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2DE01D-2288-458B-8478-6AA56D88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386A52-6F2D-4EE2-88E1-ACE19783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3A777E-8E98-4254-8940-EE2513FD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D94F73-36FF-4E7B-83B0-55798B7B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F89E3-E76B-453B-9478-07B3EE80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8FA2D5-B67E-4921-82D4-CE57C7EA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2CAF23-7742-4A4D-A55A-83E49E3C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222006-712E-4735-8E45-A21B521A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996952-2E8E-4616-8F27-3FBF0726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8513CB-A99A-4B44-A9FE-2194CBD2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75E610-9030-402A-9498-98FCE7FA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32325F-9E6B-4EE0-8AA3-A26263CE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041812-B971-499B-A773-D98E56667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362A0E-1124-46CB-A550-DFE71A727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9CA605-B7D4-415B-A39B-2C12755C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5D58F-B0B6-4017-A591-38D4B170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0B1AB3-FB03-4972-8D50-830678F9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ABAD15-EB49-44E3-898C-AE315DD4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DD8482-8659-4545-A465-693F88A2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04FA29-EC57-4673-8D8D-54ECE499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74ED77-BE31-43FA-9EEC-29C6E1D8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60A458-61B7-43B4-859E-417D2D2B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FA681F-C300-4767-9B8B-CCA86E75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FCA8E1-A36B-4AD6-AFF2-6054E055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C3E5D5-5730-43F4-86BB-E6AAB64B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79A60C-E62D-42DB-938E-45815BCD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D3DA-7FAE-4C72-8856-2061E1AE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E44EB-19F4-45B3-999D-7D68C094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3113F7-B8D3-420C-8185-F27D3243B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1D0E9C-62C9-4CBB-896C-2CA31B8C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F8749D-9EBA-4CF8-932B-25FDA32E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9499BC0-E82E-4880-A6E7-2136B347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C050BA-3803-4A52-891F-17C5BF16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030123-3906-4758-8CEA-3B7FEF68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0FD5DE-C406-4B70-8A63-7C636621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FA54D3-F42F-4018-BD92-61E3F903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6D1040A-EB9F-4447-B58D-D689E197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B7B9A8-B145-4702-8628-FD151DC3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FC11B-8ED5-424C-A9E5-7452BD42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BC9C9B-A05C-4F3A-BC68-740BB64C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2A7DEB-3EA7-4068-85C1-6B328E6B3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97B2E5F-DB5F-4FF0-9B60-AB299193C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948A1D0-E40E-4E5C-9C69-265BFDF6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F761F45-9873-48CE-878F-6E60E24F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36BB0A-C90B-44C8-B79D-1B7CB4BE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7F4FDA-AC1C-4DFB-B1C3-06D6A2EA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FAEB73-6A42-4E96-9261-BBFC9CA6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9A2D97-B7AE-42E7-BBED-11053AAE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DD984E0-C1D2-4DDD-A3A5-0C93985B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E8EB4-108E-49D9-B400-16F80BFE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C7B989C-8A7B-4C3D-9617-5F791364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BD245E-24DD-4C17-934D-C30AF8C2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9175F3-AD64-478C-B1AF-7F3BF484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14558D-198D-4AAC-AEA9-C3141AC73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44A9DC8-2356-422E-9E01-68B91501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40306F-41F0-4403-BA21-76DF57E0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C190EBD-DFE3-4C59-BFA4-467ADA60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2CED11-99D3-4A70-B642-45F89F9C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D9D2DB-295D-486B-9653-ABC62FFD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567FB9-5499-4E21-B1F2-DA89A177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449EC-1519-42D4-B931-3D674965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F29CCA-D004-4420-8B04-ED597BFA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1B3102-10C2-46C5-A7A1-1BC5FF77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90F259-F5A1-4655-A6D3-FC156796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D61C1A3-F572-48A6-B40C-FDEE8682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FECA89-4D63-4F13-AC18-6D8B1A4B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0A68869-4506-48F2-9D17-A8F44722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221DB3-F478-431A-A583-01FC9147E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6107BB5-7E9D-4A6F-AFB4-78A9C07D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114AA2C-7E66-4B5C-8836-B9F54C8F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61F1528-8CD2-48D3-B8D1-3C24D98A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91E7D-2E08-4302-94D4-24FD17B2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AE56186-449F-4865-8038-63DECFF0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FA8FA99-7018-4653-967F-038DD633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BEBD9B0-4075-4702-B2E6-366E0887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621E0CA-E20C-4EFE-A0DF-D579D4E4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181FC25-3974-4D22-B219-162C706F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AF7EF6A-B07B-4EFD-8363-7F5B75FE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661882-E073-43F4-AF9D-01CC0146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3E2AAB2-7388-4CD6-B0F7-9AB6E372C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B290537-D7D9-4660-AE6C-4917618E2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56A7C71-0A55-4CCF-8A9F-84AB435D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D3D1E-D21C-4856-BFF2-1BC3A2000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03BC9D1-5FDD-4379-ABD0-A9E83998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98E322E-D6E1-40FE-BF65-CBD7B10D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86A6BF5-13B1-48A3-94F9-EDDDD6C7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908BBD8-7DC7-4C16-9667-B78804FB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0752822-6685-4AF1-B8EB-2C17C839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7EA0C3A-EE24-46F8-9C45-C5855C6B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5BFE0B0-6E92-49EB-BC5F-19D7B5B8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09317FA-0686-4B6A-9B4F-3AD167B1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0408279-75DA-46FD-8CCE-217D124D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FF9CE3A-47A2-40E6-A7A7-B572589C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35932-E109-40BD-BE21-1FD434BC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8D2340D-B6EA-4450-B764-D7E097C1D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4BEDA6B-FD9F-4D8B-9A13-F5489252F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8576199-0BCF-43E5-9F05-DDDC4023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FAA05B9-3CCA-48A0-8DDF-7A448086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5FCB1E4-8764-46EA-A907-EEF62F4D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D83DA89-A1A6-45B5-9903-72A7B847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757AF70-5D61-42B5-B18B-EE9A45D0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A7C3824-33D4-4C8C-9450-ADD1BA88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FFF12FF-AC61-4080-9B80-2B5325F2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4FE1AA7-DB46-476D-B97D-0C1430AD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A129A-9C95-42E2-89D2-377E08DC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DF35538-39B1-47F6-A150-03752B64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9D82B03-42E2-4849-AA1A-708B8263B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E49C071-36F1-4899-A132-38E0FF84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8E962FE-AFB4-44AD-A9F7-D3949FF68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A5813A9-CC46-42D7-9C1D-36BF5181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DE2C570-BEB8-450E-835D-6278CC7D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0CCE65E-6629-4962-8D83-66EF125F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F5B9FC2-D97D-4501-8617-1D8E0CE1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3340C20-3E5F-464E-B44B-84160FD2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45AC05A-18CB-4185-80EA-DC329A9A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53222-6CEE-496D-8408-BC69A34C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A455D6D-DE1E-4880-99EE-6EDA94E1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9987935-F5CB-4268-9895-F86B7524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A314F13-9214-4E5E-B78C-9ECA4DC2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7F5CCB7-8400-401B-BE5B-F55BF7B8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4AB8AC4-C381-4A20-BD94-89227DFB7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CA6E974-B094-45F0-916A-FBEF1F07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34F8CC1-4318-4422-9985-FE7B6A39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B451396-8C87-46EC-987E-FBB42B46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0B267F4-322D-49E7-9FA2-D2B7E414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A1F2404-F631-4CC4-8C3F-7FC23334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16267-BE71-4AEB-83E2-7E8622C2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750BB5D-D221-473B-A6AB-05E701D9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50EFEDB-0202-43B0-94EE-D10178ED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78C4BED-2CD6-45BA-BE90-30F62609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FC0BDCE-1D25-4818-B3E6-A94AE30D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3C0306C-14F1-4039-ADB7-0AFD5C5E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91900EC-E7C7-42E5-9839-2B1601F4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8FA462D-2420-44BB-AC02-E0691133E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ED3C0A7-6A66-4928-94D5-9E5272E0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3D695F1-213F-44EE-8A02-C7F6E34C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B3A497D-923A-4893-944C-EC63DBE4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2BEB-10F3-4B12-BFAA-FB766558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FBE79-B57E-4785-9E68-60428C5F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8A6B843-96DB-483F-AE89-DEB71247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7F32A69-99D3-419B-8C37-A55C6065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BD9B740-59F5-4CDA-ADA3-F27EFD52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2FE3ADF-5CB7-4722-B2A8-5D8A6E60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7B25567-BB68-45B3-BDBE-3EB62754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DC7A6F6-AC80-436E-9B4E-C32B44EE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FDB1155-3E1E-42E6-B15D-3638EBC8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F104180-9B72-46A7-8F8D-66F6F6A44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AE1DC11-A17F-4704-84B3-0CA0B1C4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467E1C1-E0D7-404F-AFEE-B49BD27E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5623E-3AD2-4D77-8520-7E54566C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6D61D19-D40C-49AC-8730-0C03B64F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75C13B0-21DA-40D9-B20A-1A45ED28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D2FFC23-7956-46E5-9007-CB0BBD88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300D562-72D7-4867-812F-F22FE88A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2EC7FA6-EC68-4D65-890D-3D7CCD4A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D3E2D74-3AEA-46FD-AFCF-DA1F07B6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75FEC68-0F7C-41CE-B9FE-3797A7CC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DD2A0AF-6883-4628-916E-F6803D36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5767CB6-7AC0-48A2-BE9B-61242A7A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C392D87-DF20-4FD3-9EE9-1326044BD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EC06F-2BA9-4BDD-91D1-46A6EFE9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945D623-227B-44C8-9738-499469CE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D7B1FD4-1F0A-48B0-9A52-3884F154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01004B3-ABC1-4102-8553-A6444023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AB30A18-F2F1-4FC9-8AF9-F6D82511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4627A02-61D7-4C98-8886-513D055D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E03B3DB-5CF3-44F6-BA30-757E8E99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E02E5E5-89FB-4ED2-AC50-1120341F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BD94BD1-437C-4C98-AA45-0279C7DD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22823F1-4358-4463-B90B-D6721035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E1C4F4B-4203-4B13-A217-D1B0BFD7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9FE65-D245-474C-B737-0C8BC82F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2EDC981-4932-435D-97AE-B1252C1F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DBBBD50-0E58-44C2-92F1-9723EAE56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A47E559-AEFC-465D-9CED-5FD2E8AA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2822487-4E34-470A-AA4E-EF1181BA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D31DD2E-F66F-4F0D-AA12-DF5DE9A6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31DB7F9-645F-4171-8552-74C5CBD1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51CBD7A-AA43-4BF9-B1F0-1309FC5D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F8F2EC3-598E-45EA-996A-A5EB1E16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67C414B-0B6C-4A91-9E68-98D415F6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7F08619-244A-4DAC-BD77-8712CA8D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6E1C3-69C1-4B0C-8A09-844E3AAC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74F0C75-D3A7-4549-B508-95F3C9A8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CABD296-B051-4D52-A8B2-6CD9836B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8A01554-0CBD-48A2-A9F8-3FC56006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6F4C57B-0236-4D75-AF5E-51956BA8F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D126A9D-EDFA-4574-8E39-3D308450A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F9FE287-9F05-4216-81C9-372A6D050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72DCFAE-F6CA-40CE-B7BE-369C0504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84D4C43-9C4F-426F-8CAD-45429E92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E2172C7-71FF-4382-8DD0-BB6AC3AB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C92E60F-518B-4327-AEEC-4463FF7A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C9CA4-B9DB-4E85-84C8-AB5B748C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02428B1-516B-4DD4-BBFF-82FFD747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7D86BA7-5637-4B6D-AD1E-2D44666A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C765663-A171-40C6-ADC6-1A133AB7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9D8DEC3-72C5-411E-96CD-F863E28C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D6A9C19-4F9F-4E93-9124-5B802975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A643F37-79BD-4CEE-B320-ED9DA0756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5EAC33C-FDE9-41AB-8C52-9D22B65F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10019ED-01A6-4682-90BA-F5204E6B5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2CFCBC3-7EC3-4CF6-A78F-3F38E893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F79C2BA-6018-4082-905D-FEE976A2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DB738-C8D0-49D8-B67F-CB7D26A5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AE2829C-C012-445F-90D3-FBD9964A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BFB8422-48D3-4B85-B766-A6B3CC09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4D85480-5BF8-44DC-9CBB-EB727337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43CB710-6D88-4C6C-A7C4-DA67EBD9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A2E2574-A3FF-4493-8264-4B8B1EAC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B5453C1-A9E6-4D76-B88F-C6BC6B8B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4C1A310-1EDF-4A5B-BD8D-81C52FA6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BE8FB7F-B329-47CC-918A-D90FA2DD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53BC870-77C1-412E-8B7B-5F4DC017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5F0830B-564B-4434-A229-AFAD4E6A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D6254-BFA1-46D5-9F79-40F218CD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69E5971-BE35-42DA-B239-2FDAE637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C62749F-8F7E-4694-AA8A-4ACA9DD4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899F414-985F-41B0-ACFB-B94C5386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E0D9E14-6020-4A0B-ADE9-401E0C35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F5BBF15-CD3A-412C-BCEA-E85D823B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68C55A0-FC25-4A09-B805-F2AA92F5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CB1C0BD-E8D6-47C6-A375-250794C7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401C8AE-BAB4-45EE-B735-5B229B74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E8D160B-CF77-42F2-ABDC-597EE411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036E8D5-CA6D-4F32-900C-C7DC60E5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ACB6A-7CB6-453A-A0D5-B748A198E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7E2A496-56C1-442B-B903-F110C8D4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FF4CECE-BDD9-4A14-8133-C68D35B04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4F36796-6A64-4219-87EA-6DF70538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76CC449-DFCA-4BD7-AEAB-F8A856CB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0888B3D-7A8D-4A5C-A9ED-43D6F82C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EAA6FB5-A584-474B-ACE3-811B4F06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C09170D-9939-4CA5-9E91-F8C2A430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AEE8FDB-4DA2-41D8-8548-30B5BCE8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7D3703C-2CC2-4D3D-A9BD-60ED9F1E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30C5838-695A-44E6-94EE-AAFF27EE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F8F92-0D98-46BF-8427-1D8D2917E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B32453A-BC82-4939-8F12-78658488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FE74438-FC3F-4504-9BAC-6EC746118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078264F-50BB-4449-BF0C-2C679EDD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83C3AB7-B61E-490C-AB6B-E45739B9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AB0A631-3FDA-4FC7-9C49-1311E8C0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ED5C771-8FFF-4366-9B4F-21B4F853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BEB7D8B-2044-4AF2-9E26-15E77715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D8E316E-A1E7-4171-9846-96132FEE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534D6C0-86AA-461B-8702-0524954D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E7DF014-FC9D-4627-89CC-63BC03FA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FCA6-C56E-4FBD-BF4D-25608342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A9B86-BFE9-4B08-83CA-CEA44CC7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EA4881C-7602-4355-8BFA-F8DC38FE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9D624D0-C800-4B0D-BD60-34566F01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2994C9D-1ADE-40B3-A3EB-C794BCC8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472C7D7-CDEC-433C-8EEF-4199B908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62C1792-952C-4788-A3A1-E03114589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682FE11-DD03-4C9B-9166-6E6F11ED7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109719B-B6FD-4B18-9D28-C3239C1C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CCCAC04-68A5-4331-85DD-B7CB74A6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25D9ED4-91E6-49D2-BFE0-33AFA8D5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6766155-A70B-4F39-924A-D840DA73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B6AFD-97C5-4066-8F8E-E8EC10AC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0F904FB-BEE5-44C7-9757-7C6E307C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3DCEF80-74B3-4765-850B-F65AF20F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3188BD6-7041-4AD2-95B0-6C26B627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015611D-BC38-4500-BBDE-B5205CDF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29D995F-24B1-4D00-8660-74B14A8E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025FF2D-5818-4092-94C3-0803CF93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BDDA98E-BFD5-400C-9B31-56623D9E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CC3A895-45CF-4285-823D-3B7BF5BE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9D1265E-8BA4-4C15-8D09-42A808B5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173E3F9-1E0D-4352-B973-DAE86CC5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2C84B-CA1A-48EB-AEC4-9146F889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EB1AB5B-F0B3-406E-8B2F-86BD0DAE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F34AAD4-6F6B-408E-A8C6-EC524201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5016597-3E18-49C2-9587-C73F2553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CEE1964-95CF-48E4-885A-D62D0B42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ED22B9A-5032-47CB-9CD9-46495683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0E7B2D1-7758-44D5-A627-647B13EA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6488BBD-900C-425E-BA8B-C23A8299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5351C39-14AA-4240-A69D-F99E204C0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E7E2C67-23BC-47D0-B65F-5B2A0B5C2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29D8CD1-EF05-4673-BDA0-A0C64281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D415D-E13A-42CE-9F4F-32A21CBB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1E80479-F5F0-493A-87D2-8B2EF619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303C4DA-B01B-4AC4-8E92-5BFC33A2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5F4AA21-E52E-49CA-9D52-080054D4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ADE9F2D-CB81-45C6-BF95-DDA2FA7B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7E9084E-6382-4580-BFCA-2F0531CC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B587ECA-755B-48A9-8270-405679D5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B799F8B-3146-4227-ADAE-C467B9D8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1B584D3-DC35-4379-99D4-08103CD0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E87A329-8ECD-438C-9DE6-646A7107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533E20D-DBB2-4523-9E42-52793C0B3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83366-4AF1-4B30-8BE6-78E7DA07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80C19E3-8106-44C2-BF5A-DA28EE2BB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7A043-621F-431E-86CB-B3B37F10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34F7E-0AF2-4183-B6A8-C8ADDFAC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789FD-EA9E-4785-A2AD-F97BDDBD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F7C3B-3C61-4510-B10B-0E0A177A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E8A0B-7F38-4D1E-9274-EF6FE2005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5EB1-5C2D-4AB4-B8DD-00C25941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85CCA-5C7D-4800-ACA1-1FF7569F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CBAE4-96E8-4108-8BFA-43FEFAA0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4BE74-F5FB-41ED-9105-AA209203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07DCA-9124-4537-A6BF-3421D97E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607FA-37D3-4994-B59B-F0CBDA05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230DE-EA7A-4DA4-8F5F-71924770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4F97A-D9CA-4A2D-B2D9-2F107D9E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D3DA6-8B7D-4BFF-AC8F-1EFCA3A9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25CF4-18FB-4182-8EFD-046C4B92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A8C0F-1FDC-4A6E-87AC-601C60A9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CB7F-84FE-4F2E-80AF-F1382A0C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CD478-FBDD-4479-B6EC-C3D7A80B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94097-D930-4177-84F0-67ABCD67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C4CBC-CD9F-4938-87CB-156795E0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FB94B-B24A-433C-A0DD-971EF66A0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17827-F4C3-4F67-98C8-5E359C12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A3473-19DB-4550-9AB5-699C36CA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7E72D-1590-4D73-ACB5-0641E26D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57020-E05E-4EBB-8163-B60EBA14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1B0F8-8E87-418C-8F47-03B65B06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D49F5-6C06-4327-9F7D-3DF8250F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1186-37F0-4BAD-8F72-E8CB8C8C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8A31F-8111-4288-AC55-AFAB1468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D747E-D74D-4687-BF86-40856C9A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F6FC7-7E3F-4D9B-8C0F-6B277E41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45584-52DB-4BAE-8410-28C70EFC2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BD5A3-B596-4734-AEF0-1FCC4075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F7C57-BE13-4068-BBA8-A0E2EA12F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E232F-93DE-497B-94D2-E0A0DAEC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1DDA8-1046-4859-B206-B9D87A15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BF3EE-4419-4198-808F-189E555F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22969-15BD-4017-A0B8-BE8C8493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631D-11DF-4074-B5FC-AEDCC20A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EBD70-C0EB-4839-87A6-6BC6FF2F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32EAB-A05C-48D0-AC06-ECE4B210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FE6A0-8AE9-48C5-8122-1C588F2E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393B6-EEC5-4198-96EA-7B81A303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A7BD6-2534-404B-9B5E-DBC1A542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9255C-16CB-4944-8564-79C6D13A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F292C-70C1-4CCE-97A3-507892ADC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F02C6-0EC2-4D3B-A0C7-B6B0F594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3373A-7046-42A5-A05E-14BC5438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2F780-3490-478D-B8B7-600933D0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1219-EC1B-41EE-8944-C7BE0687C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DAF2-7C45-482A-A7E1-8FA31149E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ABC0-B7A8-4C4C-9C0D-79466BD87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1E58-926F-406C-B6F3-98B660D80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radley Hand ITC"/>
              </a:rPr>
              <a:t>Click to edit the title text format</a:t>
            </a:r>
            <a:endParaRPr b="1" lang="en-US" sz="4400" spc="-1" strike="noStrike">
              <a:solidFill>
                <a:srgbClr val="1c1c1c"/>
              </a:solidFill>
              <a:latin typeface="Bradley Hand IT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F4C7-15D1-4E9D-96A2-4793F99FB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9389-8FD8-495C-BA21-A80C7C822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7587-4D3C-4D9D-AF07-DDE31C6AB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F973-E89A-4845-9B3C-0EEB12A71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5E70-ABFB-4968-85AE-74BEF0F2B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68F5-3DD6-4A43-8B3A-AB033A104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7B36-8F79-41D9-A831-58CE6C1F8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A74D-B161-4EAC-A4B2-F97A329DA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4CA3-E3FE-40C7-9E79-3CD983AF9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2FEC-D643-4094-8C59-67E16C030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0F3F-AEAF-4C33-9AB7-6ACD8F1CD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1BC5-C264-45EB-88C5-7A4E2AFC3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1CD0-972D-4288-B53B-F0B2A65D0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AA2B-1E3B-474A-97FF-CA9A0717E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85CF-BFCE-4F12-9A7D-54198C523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0413-AAC4-48FB-99DF-1406A031B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4E78-D139-44BD-9F3B-7D26FA652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C2A9-4040-45FB-8284-10D3A712D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012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AC6F-E943-4E23-BCF1-3B8AE27FD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E537-6635-4C5F-957A-302977B53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6C75-BF89-460D-A2DC-593B2E9F1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57FD-A622-4242-841A-7BB2F210E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1B5D-05E2-49B9-B588-15AD4600F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5C74-43F7-4B77-A727-8FB437D26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1416-22E8-4F66-A521-E3ADA4437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B68F-1EA4-49F9-A785-295501247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E064-2989-4566-B152-2E43533C3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6858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6227-BFB5-4B20-BD69-B2EA82D8E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Bradley Hand ITC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Bradley Hand ITC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E665-A2C3-4D39-A978-D562743C6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BB0E-3BCC-43D7-8A36-7DB415206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E672-C37C-44A0-B304-769C2063F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858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B1FE-EEF2-4309-BE85-7B59C4029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0E03-8D03-45EF-A6F9-BF1453F73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c1c1c"/>
                </a:solidFill>
                <a:latin typeface="Big Ruckus AOE"/>
              </a:rPr>
              <a:t>Click to edit the title text format</a:t>
            </a: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2F32-3D19-4B61-B879-A4312F299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6858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A85C-9A15-4F4C-AD04-98D7EB455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B171-91BB-4C56-9E2A-BA6950EF3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7073-5721-4EFE-BD93-FB8ABB576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012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82A8-4A08-4170-91DC-88A917EBA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6535-E01F-4E01-8AC1-03BB55596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8B67-B986-425B-A809-C60C14988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012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ECD3-05B3-4812-8E59-A16E12D62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0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0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0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0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0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0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1c1c1c"/>
                </a:solidFill>
                <a:latin typeface="Big Ruckus AOE"/>
              </a:rPr>
              <a:t>Chapter 13</a:t>
            </a:r>
            <a:endParaRPr b="0" lang="en-US" sz="8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19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Big Ruckus AOE"/>
              </a:rPr>
              <a:t>Name and give examples for the reasons for lying</a:t>
            </a:r>
            <a:r>
              <a:rPr b="0" lang="en-US" sz="5400" spc="-1" strike="noStrike">
                <a:solidFill>
                  <a:srgbClr val="1c1c1c"/>
                </a:solidFill>
                <a:latin typeface="Big Ruckus AOE"/>
              </a:rPr>
              <a:t> </a:t>
            </a:r>
            <a:endParaRPr b="0" lang="en-US" sz="54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e to benefit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e to affil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e to avoid invasion of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e to avoid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e to appear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e to protect 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e to benefit 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e to harm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c1c1c"/>
                </a:solidFill>
                <a:latin typeface="Big Ruckus AOE"/>
              </a:rPr>
              <a:t>What is the four-Factor Model?</a:t>
            </a: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the model, the four factors that influence behavior when lying are: arousal, attempted control, felt emotions, and cognitive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c1c1c"/>
                </a:solidFill>
                <a:latin typeface="Big Ruckus AOE"/>
              </a:rPr>
              <a:t>How do liars behave?</a:t>
            </a: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ch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pil d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relevan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edi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si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descrep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al segmentation and body seg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Big Ruckus AOE"/>
              </a:rPr>
              <a:t>Explain interpersonal deception theory.</a:t>
            </a:r>
            <a:endParaRPr b="0" lang="en-US" sz="54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ying happens in a dynamic interaction where liar and listener dance around one another, changing their thoughts in response to each other’s moves. Liar behavior 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nipulating 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o distance themselves from the message, so if the message is found to be false, they can extricate themselves. Thus they use vague generalities and talk about other peop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ategically control behav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o suppress signals that might indicate that they are lying. For example their face may be more impassive and body more rig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mage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or example by smiling and nodding mo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c1c1c"/>
                </a:solidFill>
                <a:latin typeface="Big Ruckus AOE"/>
              </a:rPr>
              <a:t>What is the Machiavellian personality?</a:t>
            </a:r>
            <a:endParaRPr b="0" lang="en-US" sz="6000" spc="-1" strike="noStrike">
              <a:solidFill>
                <a:srgbClr val="1c1c1c"/>
              </a:solidFill>
              <a:latin typeface="Big Ruckus AOE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chiavellian personality is not interested in interpersonal relationships, manipulates others for selfish goals, and has no sense of social moral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Machs constitute a distinct type: charming, confident and glib, but also arrogant, calculating and cynical, prone to manipulate and exploit. (i.e., Rupert Murdoch, many politici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low Machs, however, can be kind of dependent, submissive and socially inep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6:23:29Z</dcterms:created>
  <dc:creator>nuhs</dc:creator>
  <dc:description/>
  <dc:language>en-US</dc:language>
  <cp:lastModifiedBy>nuhs</cp:lastModifiedBy>
  <dcterms:modified xsi:type="dcterms:W3CDTF">2007-11-19T18:00:43Z</dcterms:modified>
  <cp:revision>4</cp:revision>
  <dc:subject/>
  <dc:title>Chapter 13</dc:title>
</cp:coreProperties>
</file>